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332-E14C-454D-9E93-855E8AA6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41F-B21A-4AC5-AB4F-D1E21B50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ADF-F3FC-46B4-BB8A-F2E6E95A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4D3-9A3A-44C3-8890-4D0A7F4D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E3EA-7A56-4627-966F-C1A9C723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B2B6-C639-4B2A-B1CD-ED4F8906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92C6-4A23-413D-8F5F-312ABCA4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894D-F644-4FC3-868E-B86AEC41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1FD6-8865-40FF-8F75-79381494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8D31-D0CB-4F0A-BE65-CC2A3B6A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BA77-A9A6-43D6-9E9B-7F2F7EB7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749-6F15-4594-A3B0-8062EC36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6DA2-5FC5-4311-89B1-D16A004B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A7A0-AFD9-45F3-BB63-3E43FE0C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5517-8203-48B4-B192-64014656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DA59-4D45-43A5-8F1A-CB8A540C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1706-70D9-443B-BC31-1B4E6398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A8F-499A-4A8A-836A-DF65C69B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89C-0DA3-445B-A726-3987CC08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902-5498-4809-A1B3-8C48344E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6BE-C2F8-44F0-BB40-4C35D452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521-E9D8-4637-94CF-6864F3A3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C14-6FC4-4625-ACB2-E760AE82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E36-1C09-496A-AF08-57552089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DF63-CA92-48F5-A489-97F013FCA7B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5E71-B75F-4F2B-9D00-F9A4849B1AA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Thesispresent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7335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imes New Roman"/>
              </a:rPr>
              <a:t>Reflectie door middel va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imes New Roman"/>
              </a:rPr>
              <a:t>Jit-compilati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Paul-Henri Van der Steich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Werk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Linguistic symbio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Reïficatie : gebruik van C in P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Arial"/>
              </a:rPr>
              <a:t>Gebruik van de C-plus om de pico-plus te implementer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Absorbtie : gebruik van Pico in 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overview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6092640" cy="19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lectie door middel van Jit-compilatie  -- Thesis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5CC-46ED-44CA-97ED-40B4CE46D816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Versie / Dependency systee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Oneindige toren van interpreters kleinkrijgen tot 1 level -&gt; dubbele namen van de verschillende vers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ersie bijhou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Oude versies bijhou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Afhankelijk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Tussen versies (inlining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ij combin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Jit compilatie -&gt; compilatie bij uitvoering niet bij verand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lectie door middel van Jit-compilatie  -- Thesis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27A-1A0B-43B4-8AA8-29C55D2AA043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Conclus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Jit-compilatie kan gebruikt worden voor performantie winst bij RVM m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Versie / Dependency syste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SMART – J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Reflectieve Kern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lectie door middel van Jit-compilatie  -- Thesis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54D-4047-475D-B56C-457A0C907717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Bootstrap proble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Reflectieve Jit-compiler (OpenJi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Optimale grootte thunk (compositi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Wat Jit-compileren (per functie?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small%20-%20big" descr=""/>
          <p:cNvPicPr/>
          <p:nvPr/>
        </p:nvPicPr>
        <p:blipFill>
          <a:blip r:embed="rId1"/>
          <a:stretch/>
        </p:blipFill>
        <p:spPr>
          <a:xfrm>
            <a:off x="2590920" y="3809880"/>
            <a:ext cx="4051080" cy="100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lectie door middel van Jit-compilatie  -- Thesis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74E-F45B-49B7-B6BF-E5C7D7503806}" type="slidenum">
              <a:t>13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Overzich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Doel van de the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Situe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Hedendaagse oplossinge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Onze oplo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Jit-compil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Pico \ Bor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Wer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Conclu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lectie door middel van Jit-compilatie  -- Thesis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A98-C23C-4B47-A55B-AB9A2624DF23}" type="slidenum">
              <a:t>2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Doel van de thes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Definieren van een performa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Reflectieve Virtuele Mach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Ho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Just-in-Time compil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Meta-circulaire voorstel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Kernel-less syste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Waaro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Performantie wins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lectie door middel van Jit-compilatie  -- Thesis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808-3EBF-403B-8882-D93405F50B0B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Situer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Reflectie = aanpassen van de interpreter vanuit Borg zel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Hedendaagse reflect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Sleutelwoord i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interpret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Conceptueel oneindig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toren van interpre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slot%20presentatie%20tekening" descr=""/>
          <p:cNvPicPr/>
          <p:nvPr/>
        </p:nvPicPr>
        <p:blipFill>
          <a:blip r:embed="rId1"/>
          <a:stretch/>
        </p:blipFill>
        <p:spPr>
          <a:xfrm>
            <a:off x="5715000" y="3200400"/>
            <a:ext cx="3276720" cy="28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lectie door middel van Jit-compilatie  -- Thesis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8DA-BCE2-4C01-9FF0-C64FDE3041DE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Hedendaagse oplossin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Geen performantie win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Runtime refl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Opofferen van aanpasbaarhe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Compile time refl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Load time refl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Meta Object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Lazy creatie van direct uitgevoerde interpr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Partiele eval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lectie door middel van Jit-compilatie  -- Thesis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B31-BAF4-4986-93B4-B0FB13C93277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Onze oploss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Volledige aanpasbaarheid + performan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Interpretatie : te traa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Compilatie : onaanpasba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Just-in-Time compil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Voordelen van compilatie en interpretatie gebruik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lectie door middel van Jit-compilatie  -- Thesis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798-6D9A-4DA4-BA67-1B39ED4EA0EF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Onze oplossing (cn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Toren van interpreters kleinkrijgen tot 1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Just-in-Time Reflec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nter%20-%20comp" descr=""/>
          <p:cNvPicPr/>
          <p:nvPr/>
        </p:nvPicPr>
        <p:blipFill>
          <a:blip r:embed="rId1"/>
          <a:stretch/>
        </p:blipFill>
        <p:spPr>
          <a:xfrm>
            <a:off x="1828800" y="3200400"/>
            <a:ext cx="7010280" cy="186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lectie door middel van Jit-compilatie  -- Thesis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2E1-A3ED-47D5-9B07-33117F521591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Jit-compil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Just-in-Time compilat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Kleine’ delen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At runtime compilat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Enkel als het nodig is (bij oproe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Bij heroproepen code -&gt; gecompileerde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Smart J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lectie door middel van Jit-compilatie  -- Thesis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302-64E4-4D59-B1F4-3100EFD6A5F9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bcbcb"/>
                </a:solidFill>
                <a:latin typeface="Times New Roman"/>
              </a:rPr>
              <a:t>Pico \ Bor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Continuatie gebasee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Stack (continuatie stack – data stac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Arial"/>
              </a:rPr>
              <a:t>Bijv. : (5 + 3) * 8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stacks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281952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lectie door middel van Jit-compilatie  -- Thesis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764-723F-4BD4-BE15-F791C676D9A1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8:47:47Z</dcterms:created>
  <dc:creator>Guess Who</dc:creator>
  <dc:description/>
  <dc:language>en-US</dc:language>
  <cp:lastModifiedBy>Guess Who</cp:lastModifiedBy>
  <dcterms:modified xsi:type="dcterms:W3CDTF">2002-06-19T21:51:43Z</dcterms:modified>
  <cp:revision>25</cp:revision>
  <dc:subject/>
  <dc:title>Thesispresentatie</dc:title>
</cp:coreProperties>
</file>